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dt" idx="2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75F4A-6966-4F67-AA9B-D3207A455F6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EB321-29EE-4F47-97ED-F871A565AA68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0" name="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D41BD-4EC2-4783-B3A2-8F88CD9418D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C3A8D-6252-48AA-9603-535F8D3360D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BD2C5-6A48-4106-82A2-15CFC13628E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33FDB-7E03-49D1-A594-45CB5B17DA23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F5BA8-32D3-44B7-85E2-9B3730438B0C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A7010-C289-451B-8CCF-882753CD89C2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3B336-E879-42E3-93EB-DC184111ED96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AF951-9D8A-4C94-8CCD-C58B4F37BEB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B1CFD-3A93-446F-9D7D-0960BB780BAD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8632A-7D6D-49E3-ADB7-E8BECAF75DDF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466F8-BD4B-438F-BB4A-1D87D6F3AC71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A8199-653A-4CA6-BAB9-7A104EC63BE5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0DF9C-C008-4127-8347-1CD49FC64C06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B855A-DB63-49A1-B9C3-B147BFC5B534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3F45A-A4C0-4B06-9AB7-4F09E1A64713}" type="slidenum">
              <a:rPr b="0" lang="et-EE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67152-C061-4746-905B-2B2BB172A44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"/>
          <p:cNvSpPr/>
          <p:nvPr/>
        </p:nvSpPr>
        <p:spPr>
          <a:xfrm>
            <a:off x="685800" y="4341960"/>
            <a:ext cx="54878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3A77-35F5-4DA7-8210-5288933034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9D66-67CE-46A1-9660-85E91BBC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CA2D8-CFCA-4D10-B8E8-E51AC79A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5430F-4639-494E-9096-76767738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80673-FF67-4E42-BD2D-30326E1C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ADAC9-B177-455E-B4E9-544784DA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72746-1C6A-4435-ADD9-AEAF9BBC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2EBA-E696-435E-8A6E-19DC8DB4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211A3-74DD-4E03-977B-37D8A47D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C0B2-A935-4EAE-B927-969A7C72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1353-1325-4DDD-B2EC-8A28880A82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B2A64-D6DB-4BBB-BB58-B78E93D74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D677-27A3-4DFD-A868-BF4D5271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26059-0B26-49F2-BDCF-E811D389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DFB51-26C1-43D4-8CD9-04B884E1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416B9-B357-4A26-962E-653B9ACD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2F2AD-1A8B-47BE-8FA6-4B709336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15E72-87C8-4955-A6A1-7D0C7DB6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374C3-275A-4EF0-9168-CC38A57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E7480-173C-47E0-A6FA-43CEB6FD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E4D66-6125-47AE-A871-DE74AA65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D089F-ECD6-4B3D-BC28-85CFFB21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A8E4B-31D9-435F-B4BC-0FA32570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AEE4-340C-458D-BC51-77073C73ED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C598B-8F60-4C3F-9EB7-DB44B13D9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9CCD56-71C1-4CBF-802B-AFDA599F3A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7F85ED-6F7D-49D5-9B37-8B71BB57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60409F-843D-4AB2-B280-4BF9DD87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B2695A-4C34-49ED-AD06-50F40C7C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7C6727-F700-4FCD-9B70-A42E8375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DDCDAC-CDFD-4C54-A51E-0EB77176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AB996B-9B87-4FC2-8945-383FEE3F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B8C958-5A1C-4535-B7DC-26C913D1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C824BC-718A-493C-A288-496F4F87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F0071-6C14-4DD4-B12D-B27B37314F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0EF1C-B202-4177-BFD1-B0A72C2E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D7BB4F-F753-4E8A-9BAA-9BB8927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71FA1E-85F1-4C96-90A6-E2FDCC9CAC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AE218-DE58-4C7A-AEC7-F161EABBBF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F31A2-7EFD-45F6-88EB-DED8C4AC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3130E-D3A6-4041-BC47-9E28705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A4F3B-E63E-481B-B94B-A06B2EA8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CD627-814D-4A2C-864D-44271D51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3307-D01E-4CC7-9EF2-303834F7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3FB1F-D009-48E1-8CF2-6A5A6878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FABBD-D57A-4B79-9699-7E30502A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BCE63-07A5-4EBA-8474-AE49AC9B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AC562-8389-43B1-90DE-160FEFA7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3AA16-C5F2-43F4-9A5F-413BF1D2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89B2-5DD6-4B1C-8167-29BDF12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2EEB7-31E4-4A70-B66A-7E10ED6771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69F90-3CF9-405A-AD9C-D72A6D284F4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44F66-E024-4FC7-B9DB-A41448A7AAF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5EA02-5B64-4672-AEC7-20C16A479B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8B75F-A6D9-497E-83F0-AB60793EE4F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282D5-DDCB-417C-B662-C8FF486EF6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A5A66-D245-4338-8D6C-332D0A9C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B6D1C-8429-4FC2-B938-2D096DA615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9B5DC-A693-4250-8809-D12764F01B5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2B709-C702-4F8A-9A41-C776F49726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8F34F-25F1-415C-ADD5-C0E5138C3F6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BBEE6-A4DC-428C-AE7C-8A683C62CF4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399A6-5DD8-4197-A4D7-C84BB02E1EC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0DC2E-2C37-409C-A2EA-DB5F897E24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1323C-AAA1-4ED4-8314-52D1B854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65297-A590-4A23-9560-A5A913CE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B65E9-4FDE-4EB8-9A10-4BB81A05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E77A2-DF8B-4AD6-9BF1-B7A7392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06E1-EB0B-4EB4-BA02-AC4A8EC8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38F61-5A97-44E1-8D5E-23A3F21B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D6835-FA80-4172-9181-8DBEF229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658B7-4F8D-4E90-A40B-A4C39F1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47190-B44F-490F-927D-38542200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4B1DE-C3B9-4CA1-AA02-12DB36F87C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4A2F-21C4-4CCC-A80E-D6A05A4FA7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D2EA-23D7-4F72-9CC6-20796D2B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B8C3-158F-4C31-B99E-A9516F48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A8B2-63FA-4B80-8802-86ED3504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0184-07AF-43F6-8761-B2FDFAF9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4A87-CEF6-424E-9E18-67B4D45F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7EE1-7FC6-4EA3-A68D-6C36F595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B4BE-3FF2-45CD-B257-755D7A6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551D-4E24-46E8-85B0-6CD9A7F6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CB2B-4E0E-4D42-BC31-CA2752BB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CC4B-4ADF-4F4F-85AB-832CDDE7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E444-4DA8-4D49-96B9-3225FA45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D63B-09B9-4EE2-B01F-9C8F5C9AA4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FCF18-667E-4086-B42C-E58D237427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45A72-31EC-4EB2-9149-660B0D5C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4717A-6F99-45FA-9835-075A00F7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D607-750B-406E-B8F9-8ABE283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4DC76-1E17-485D-A11E-9C45AE60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E4D25-7F30-42A2-8B2B-4C16FC61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BB780-D718-4DFD-98B5-0B0BD4C0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BF753-58C7-4D49-8905-FCBD97E4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C652A-11AA-4639-BC47-0D11971E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00FE4-0C31-42ED-825F-BC368612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46683-4579-4F97-A8D0-0506C39F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E56F8-FB33-43FD-845C-BC309AAC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F4A10-9A0F-466C-B1A3-109D9CD1E3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0FFA1-86A7-4126-B56F-B875642339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0168B-B0AC-43E6-AFDA-D82BC983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C9263-4F4A-4150-9ACB-7FAA98A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E5CC6-B02F-4588-A6E5-59686F70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F7EE1-A081-4A8B-9476-6FAAC743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2DEEA-285D-4B67-AAF3-25A05924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4607B-CA5A-4AE5-9C33-5E58761A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D4E00-BD25-47D0-AB08-068376A3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36D141-3BFC-4C2A-A404-7CA79839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554AA-348C-483C-B694-8D5BFB38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B9D15-1BF3-4D25-9C5B-CBDB747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62ABBD-51F6-4C2F-ACE1-E0286AB3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F96F-F25A-4E7C-9F9A-762E1DC8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59CAD-8438-4E49-8BDB-DA8FEE4E0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EAF9-0AC2-45D7-937A-155F2A3FBE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07B72-A60B-4D72-8334-05250B44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04030-0858-4D83-BD3A-9EFA0418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30FF-BF45-4F06-9AC3-1B6403CB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B256-A9E3-41AB-9B5D-863314F1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B2AD7-2698-433A-B443-4B28644E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5F02-15D3-4AC0-B0CC-95D0EC1C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7049-4FC1-4D97-B7CA-E50453A6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BD47A-41D9-481B-B1EA-F582C1B5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FDC2-C292-4954-BBCD-D2E2571E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2720-5613-4BF8-8087-45A75ABE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9CB9-00CF-4BC8-A311-0522BF9F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4108-2A59-46AB-9B77-2CA05EBF73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27A69-9F89-4C65-9A0D-1F0D506DCA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16540-9EEC-411E-8303-1AB073CA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E5204-ADB4-49E9-861C-539B1E87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337C1-CDA7-48EB-920A-D6E9B8A7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460A1-87B0-4FB2-8ED0-33E49E20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06AE2-5324-4FA8-BDCA-B2DF7259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6FF55-BD81-4738-8C83-FE7BC900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0C5F-66D3-49BD-82FF-D7A38698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C239F-164D-4F10-B8E9-C39E9F2E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63425-857B-48E1-A61D-D50C5196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14218-35B1-418E-BD9F-B445D22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3AC5C-FEC2-4604-9E36-2B542B1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641D0-EC08-449A-984D-56EA042E1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85EBBF-67F5-44ED-9CB7-201C35ECD1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E683E5-0206-45E0-B92D-75524718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99CFBF-4C1D-4235-94CA-C99ECBD4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8902BF-44DB-495E-A621-1BDD1FA4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AFAA37-8BFC-4B48-8FB7-1DAD6A26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D510-33A9-46AC-8398-55EF50D4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A84003-7553-4ED8-B454-C5E20DA6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6AEB84-7F3D-4702-A73C-7F702E37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6E4681-0F17-4CF1-93B1-0DB46A6C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5C53B7-69DF-4612-88F5-B8A1610B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4503600"/>
            <a:ext cx="822492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DE494-BD9E-4A2E-A5F7-F56D5CF4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1720" y="4503600"/>
            <a:ext cx="401364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7DDFA-52F1-44B2-B71D-8AFA258E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7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840" y="4503600"/>
            <a:ext cx="2648160" cy="264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C3C240-DF2C-43AC-A6AE-234DEE7185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128E1-6E6C-463E-B1A1-9397AE29C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4481C-4F09-49D4-B196-9BA92716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75F5-813C-4862-A60D-C55C4990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4.03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D3AA2-951B-40D6-905B-024EAD8A8512}" type="slidenum"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2440" y="4026960"/>
            <a:ext cx="54813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1360" cy="83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81F15-6EC5-43EF-A94C-F9E7C80FDB0C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473C7-6BBD-4521-8CB2-C556217C046D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05272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488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D1123-CFC1-42FB-897D-5C2E6857B3F2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49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25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E9347-C951-46C1-A0C5-889A88EBD2D0}" type="slidenum">
              <a:rPr b="0" lang="et-E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240" y="3885840"/>
            <a:ext cx="63961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0A6B3-D9F4-45BA-A8E5-4A4C29AF3E99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33EF6-8F13-4CA1-8372-B77B01867D75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55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1800" y="4406400"/>
            <a:ext cx="77677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1800" y="-1211760"/>
            <a:ext cx="776772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F4851-2541-45FE-9438-B38FB1636679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8BFE4-609F-4C74-AD69-342D30E87E8D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-10242720"/>
            <a:ext cx="4035600" cy="12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F37B2-4A57-473C-93DA-C627E924AEDD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96C5E-D2E2-4E07-9A1B-657D1868C0E3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F7C95-F2BB-4FB7-8040-B26B5E6829F2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-1150920"/>
            <a:ext cx="30034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2560" indent="-682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139760"/>
                <a:tab algn="l" pos="1596960"/>
                <a:tab algn="l" pos="2054160"/>
                <a:tab algn="l" pos="2511360"/>
                <a:tab algn="l" pos="2968560"/>
                <a:tab algn="l" pos="3425760"/>
                <a:tab algn="l" pos="3882960"/>
                <a:tab algn="l" pos="4340160"/>
                <a:tab algn="l" pos="4797360"/>
                <a:tab algn="l" pos="5254560"/>
                <a:tab algn="l" pos="5711760"/>
                <a:tab algn="l" pos="6168960"/>
                <a:tab algn="l" pos="6626160"/>
                <a:tab algn="l" pos="7083360"/>
                <a:tab algn="l" pos="7540560"/>
                <a:tab algn="l" pos="7997760"/>
                <a:tab algn="l" pos="8454960"/>
                <a:tab algn="l" pos="8912160"/>
                <a:tab algn="l" pos="9369360"/>
                <a:tab algn="l" pos="9826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434960"/>
            <a:ext cx="3003480" cy="319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14.0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5CADD-84FA-43D4-BE03-0034ECB76C60}" type="slidenum">
              <a:rPr b="0" lang="et-EE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20720" y="900000"/>
            <a:ext cx="7764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represent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Html annotations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dfa an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f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39920" y="49068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828720" y="830160"/>
            <a:ext cx="7672320" cy="75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lgse html tek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tootaja_nimi"       href="http://www.mkm.ee/index.php?id=7187&amp;amp;tootaja=1000045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Taivo Kivistik&lt;/a&gt;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 class="tootaja_inf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asekantsler (õigusa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br&gt;Tel:  6256346 | E-pos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kontakt_mail" href="javascript:void(0)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onclick="sendmail('taivo.kivistik', 'mkm.ee')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taivo.kivist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img src="majandus_juhtkond_files/e_post.gif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class="e_post_gif" border="0"&gt;mkm.ee&lt;/a&gt; &lt;br&gt;&lt;/div&gt;&lt;b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828720" y="830160"/>
            <a:ext cx="7672320" cy="75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semel kasutatakse RDFa järgi annoteeritud htm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about="#Taivo_Kivistik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tootaja_nimi"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rel="er:koduleht"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 href="http://www.mkm.ee/index.php?id=7187&amp;amp;tootaja=1000045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nimi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Taivo Kivistik&lt;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/spa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a&gt;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div class="tootaja_inf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amet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asekantsler (õigusala)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br&gt;Tel: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span property="er:telefon"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6256346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| E-pos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a class="kontakt_mail" href="javascript:void(0)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onclick="sendmail('taivo.kivistik', 'mkm.ee')"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"er:email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content="taivo.kivistik@mkm.ee"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taivo.kivist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img src="majandus_juhtkond_files/e_post.gif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class="e_post_gif" border="0"&gt;mkm.ee&lt;/a&gt; &lt;br&gt;&lt;/div&gt;&lt;b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828720" y="830160"/>
            <a:ext cx="7672320" cy="67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RDFa konkreetsema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Üldiselt peaks piisam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ei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st lihtsama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 RDFa võimalus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  <a:ea typeface="Tahoma"/>
              </a:rPr>
              <a:t>t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bjekti id määramiseks: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ab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#kohalik_i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lingi omaduse nime jaoks: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r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er:omad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üldiselt omaduse nime jaoks: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prop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er:omad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kui vaja (enamasti ei), tüüp: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xsd:tyybinim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maduse väärtus:                        tüüpiliselt htmls ol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omaduse väärtus alternatiivselt: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cont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ahoma"/>
              </a:rPr>
              <a:t>=”väärt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Facebook &amp; RDFa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Open Graph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s://developers.facebook.com/docs/opengraphprotocol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map" property="og:titl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http://www.sightsmap.com" property="og:url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map" property="og:site_nam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website" property="og:typ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Sightseeing popularity heatmaps for the whole world, based on Panoramio photos, Wikipedia and FourSquare." property="og:description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http://www.sightsmap.com/wpng/siteimage_small_150.jpg" property="og:image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tanel.tammet" property="fb:admins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&lt;meta content="330325837036787" property="fb:app_id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Google &amp; RDFa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ich snip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http://support.google.com/webmasters/bin/topic.py?hl=en&amp;topic=1088472&amp;parent=21997&amp;ctx=top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Use eith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DF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cro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Micro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body itemtype="http://schema.org/WebPage" itemscope="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Or a longer examp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itemscope itemtype="http://data-vocabulary.org/Person"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itemprop="name"&gt;Bob Smith&lt;/span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itemprop="nickname"&gt;Smithy&lt;/span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 p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itemprop="url"&gt;www.example.com&lt;/a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itemprop="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itemprop="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ompare RDFa &amp; microda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RDF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xmlns:v="http://rdf.data-vocabulary.org/#" typeof="v:Person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property="v:name"&gt;Bob Smith&lt;/span&gt;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property="v:nickname"&gt;Smithy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p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rel="v:url"&gt;www.example.com&lt;/a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property="v: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property="v: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dat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iv itemscope itemtype="http://data-vocabulary.org/Person"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name is &lt;span itemprop="name"&gt;Bob Smith&lt;/span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people call me &lt;span itemprop="nickname"&gt;Smithy&lt;/span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is my home p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a href="http://www.example.com" itemprop="url"&gt;www.example.com&lt;/a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ve in Albuquerque, NM and work as an &lt;span itemprop="title"&gt;engineer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&lt;span itemprop="affiliation"&gt;ACME Corp&lt;/span&gt;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Google example: data encoded in 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class=„...“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ttributes, here concretely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 vcard format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div class="vcard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img class="photo" src="www.example.com/bobsmith.jpg" 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trong class="fn"&gt;Bob Smith&lt;/strong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title"&gt;Senior editor&lt;/span&gt; at &lt;span class="org"&gt;ACME Reviews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adr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street-address"&gt;200 Main St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locality"&gt;Desertville&lt;/span&gt;, &lt;span class="region"&gt;AZ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span class="postal-code"&gt;12345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/spa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&lt;/div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reated by: Google, Microsoft, and Yaho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Goal: create a shared </a:t>
            </a: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arkup vocabul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ed by major search eng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lso: http://www.sitemaps.org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ompare to: wordnet (a very different anima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ee additionall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googlewebmastercentral.blogspot.com/2012/12/introducing-data-highlighter-for-event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googlewebmastercentral.blogspot.com/2012/07/introducing-structured-data-dashboard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Lectur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Html annot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RDF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Micro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  <a:ea typeface="SimSun"/>
              </a:rPr>
              <a:t>Facebook &amp;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5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D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RDFs and lo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“ html: two mea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First meaning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 semantic element clearly describes its meaning to both the browse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nd the develop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Exampl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non-seman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elements: &lt;div&gt; and &lt;span&gt; - Tells nothing about its cont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Exampl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seman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elements: &lt;form&gt;, &lt;table&gt;, and &lt;img&gt; - Clearly defines its cont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Calibri"/>
              </a:rPr>
              <a:t>Second meaning (the subject of this lectur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Encode program-processable data (a la name, age, cost, id etc) into html by a special </a:t>
            </a:r>
            <a:r>
              <a:rPr b="0" lang="et-EE" sz="2000" spc="-1" strike="noStrike">
                <a:solidFill>
                  <a:srgbClr val="ff0000"/>
                </a:solidFill>
                <a:latin typeface="Calibri"/>
                <a:ea typeface="SimSun"/>
              </a:rPr>
              <a:t>annotation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SimSun"/>
              </a:rPr>
              <a:t> mech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 html </a:t>
            </a:r>
            <a:r>
              <a:rPr b="0" lang="et-EE" sz="4400" spc="-1" strike="noStrike">
                <a:solidFill>
                  <a:srgbClr val="ff0000"/>
                </a:solidFill>
                <a:latin typeface="Calibri"/>
              </a:rPr>
              <a:t>anno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Big question: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ow to publish machine-processable data (as opposed to visual-oriented html) on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wo main approach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ublish data in csv, xml, json, rdf or some such purely machine-oriented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ublish data inside human/visual-oriented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Semantic html annotations: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integrate machine-processable information into visual-design-oriented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emantic html „standards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ant format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ML5 </a:t>
            </a: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data attribu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RDF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W3C standard pushed by the semantic web commun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Facebook Open Graph protoc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  <a:ea typeface="SimSun"/>
              </a:rPr>
              <a:t>Google Structured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12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data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Microform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Important ontologies/dictionari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schema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Calibri"/>
              </a:rPr>
              <a:t>word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ML5 data attrib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Simplest of all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Just add  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*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...“  attributes where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can be anything and ... can be anything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Lik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lt;div 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nam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jaan“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age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20“ </a:t>
            </a:r>
            <a:r>
              <a:rPr b="0" lang="et-EE" sz="2200" spc="-1" strike="noStrike">
                <a:solidFill>
                  <a:srgbClr val="ff0000"/>
                </a:solidFill>
                <a:latin typeface="Calibri"/>
              </a:rPr>
              <a:t>data-fun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=“not much“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ordinary tex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&lt;/div&gt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Can use in css selectors, javascript, external software etc exactly as you like: no real „pre-defined“ mean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ML5 data attrib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Dataset API exampl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Assuming elemen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&lt;div id="myDiv" data-name="myDiv" data-id="myId" data-my-custom-key="This is the value"&gt;&lt;/div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Get the e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element = document.getElementById("myDiv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Get the 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id = element.dataset.i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Retrieves "data-my-custom-key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var customKey = element.dataset.myCustomKe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Sets the value to something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element.dataset.myCustomKey = "Some other value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Element becom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t-EE" sz="1400" spc="-1" strike="noStrike">
                <a:solidFill>
                  <a:srgbClr val="000000"/>
                </a:solidFill>
                <a:latin typeface="Calibri"/>
              </a:rPr>
              <a:t>&lt;div id="myDiv" data-name="myDiv" data-id="myId" data-my-custom-key="Some other value"&gt;&lt;/div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W3C standard: RDF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Rea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en.wikipedia.org/wiki/RDF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ttp://www.w3.org/TR/xhtml-rdfa-primer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Histor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DFa 1.0 reached 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W3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ation sta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2012:   RDFa 1.1  does not require XML-specific namespace mechanis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828720" y="114480"/>
            <a:ext cx="7672320" cy="87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Näid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lgse html-tek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Jaanus Kask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6024554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&lt;a href=”http://kask.googlepages.com”&gt;kliki siia&lt;/a&gt;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semel on html-tekstiks RDFa järgi annoteerit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r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about=”#jaanus_kask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”er:nimi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Jaanus Kask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property=”er:telefon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gt;6024554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td&gt;&lt;a </a:t>
            </a:r>
            <a:r>
              <a:rPr b="0" lang="en-GB" sz="1800" spc="-1" strike="noStrike">
                <a:solidFill>
                  <a:srgbClr val="800000"/>
                </a:solidFill>
                <a:latin typeface="Arial"/>
                <a:ea typeface="Tahoma"/>
              </a:rPr>
              <a:t>rel=”er:koduleht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href=”http://kask.googlepages.com”&gt;kliki siia&lt;/a&gt;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ahoma"/>
              </a:rPr>
              <a:t>&lt;/t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/>
  <dcterms:modified xsi:type="dcterms:W3CDTF">2015-03-02T13:00:28Z</dcterms:modified>
  <cp:revision>135</cp:revision>
  <dc:subject/>
  <dc:title>RDF and schemaless databases: some notes</dc:title>
</cp:coreProperties>
</file>